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575-8A73-4947-8815-40BF8220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EC-920B-4324-B4FB-921D3AA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4C0-B270-4E5A-BBE8-A0400244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D73-8259-45DF-A3A9-EDCEFF64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EA1-445F-4A90-8D88-70006D2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16A-0B87-4036-B2FF-777701CB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94E-8E07-409A-B596-8E63257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341-4F12-4E02-9D93-66A7FD6E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FB3-AFE4-4054-B990-F67ED8D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CF9-3BB1-4E16-9FE9-EEDA397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B62-B01C-48C1-9DC9-C4B58D9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3ED-FD70-4B58-85F4-6943BC6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A1C-2675-4320-91B3-998063E6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3808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04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团团圆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etherness and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火锅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o gu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2408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糕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ian g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高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eing Promoted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2286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长长久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ng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长年菜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ang nain c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304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财源广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饺子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iao z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5943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红烧蹄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ong shao ti pa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十全十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verything Is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烩十锦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i shi j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圆滿吉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holeness and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全鸡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quan j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平安吉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pp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5867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苹果，桔子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ing gu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u z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22860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undanc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鱼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招财进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春卷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un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11:59Z</dcterms:created>
  <dc:creator>ISB ISB</dc:creator>
  <dc:description/>
  <dc:language>en-US</dc:language>
  <cp:lastModifiedBy> </cp:lastModifiedBy>
  <dcterms:modified xsi:type="dcterms:W3CDTF">2004-11-13T06:27:23Z</dcterms:modified>
  <cp:revision>16</cp:revision>
  <dc:subject/>
  <dc:title>PowerPoint Presentation</dc:title>
</cp:coreProperties>
</file>